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735B-E365-4781-8949-33C61D6A0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DEF0-04AF-4A4A-80BA-EC1A512E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D7AC-0786-4B61-B779-3EF8C1E3D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D6D5-DD42-49A3-88D5-59EBB4F0B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7408-2FED-4DC2-B22E-4E6603054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8B71-ECCE-485C-84D9-AC22ED95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8A33-C905-4F76-A925-01BC2A95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B59D-0198-45C3-984F-83C4361E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30A7-3C9A-4C3C-82DC-616A7258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285E-9B02-4176-8146-FE102EC4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7165F-EAED-461F-9353-284C82F4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7281-84F5-4285-A1BA-0240C9E4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F97F-7F6A-4A92-AF86-BFE9656D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37EE-8F7A-4E02-BC67-3BF5CA29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2D28-7606-405B-ACEE-2879AEEA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F33F-3FE4-4292-81AB-F7782771F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C3CC-0B70-4BD5-BB62-F3A2791D9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0378-D7E7-498E-ACF8-545543AC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C4ED-5971-41E8-B648-D7199F3B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FE38-30A9-42B2-862D-853CBD0A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5AF7-92CB-4B77-977F-FD8675EC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18CB-CAA9-412B-BE49-749AD7A8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B763-0B88-42CB-AE4C-0A9A3AB3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6735-5BF9-42F3-BA49-EBB569B3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8464-138C-4027-9A4D-6ECA04869570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0750-12A3-4B24-86A0-0045DA0ADCFA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6 Chapter Note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The Structure of Congres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361960" y="4800240"/>
            <a:ext cx="426708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Legislative Branch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429000" y="3254400"/>
            <a:ext cx="213372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pecial power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of the Hous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House impeaches federal officials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l </a:t>
            </a: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revenue bills (money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must begin in the House,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y </a:t>
            </a: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choose the President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f a candidate does not reach 270 electoral votes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The US Senat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re are </a:t>
            </a: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100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embers, 2 from each stat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nators serve a </a:t>
            </a: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6-year term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without term limit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66"/>
                </a:solidFill>
                <a:latin typeface="Comic Sans MS"/>
              </a:rPr>
              <a:t>North Carolina Senator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 NC we are represented by two Republican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ichard Bur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lizabeth Dol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0" y="2651040"/>
            <a:ext cx="3981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Qualifications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r the Senate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You must be at least </a:t>
            </a: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30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years ol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itiz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of the US for 9 year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resident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f the State that you live in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enefit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ir salary is </a:t>
            </a: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165,500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dollars a yea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y also have all of the same benefits that members of the House of Representatives enjoy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66"/>
                </a:solidFill>
                <a:latin typeface="Comic Sans MS"/>
              </a:rPr>
              <a:t>Officers of the Senat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848360" cy="426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The leader of the Senate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the Vice-Presiden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urrently the Vice-President is Dick Cheney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Vice-President is not a regular member of the Senate, but can break a tie if necessary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The President pro-tempor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handles the everyday business of the Senate. The president pro-tempore is the most senior member of the majority party. Currently the president pro-tempore is Robert Byrd of West Virginia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66"/>
                </a:solidFill>
                <a:latin typeface="Comic Sans MS"/>
              </a:rPr>
              <a:t>Party Leadership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minority leader is Mitch McConnell a Republican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majority leader is Harry Reid a Democra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y have the same duties as the party leaders in the Hous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66"/>
                </a:solidFill>
                <a:latin typeface="Comic Sans MS"/>
              </a:rPr>
              <a:t>Special powers of the Senat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The impeachment trial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is held in the Senate. The Chief Justice of the Supreme Court conducts the trial. For the impeachment trial of Bill Clinton, Chief Justice William Rehnquist was the Judge.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2/3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votes are needed by the Senate to remove a federal official from office (67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Approves all treatie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firms all Presidential nominations to offic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66"/>
                </a:solidFill>
                <a:latin typeface="Comic Sans MS"/>
              </a:rPr>
              <a:t>Congressional Procedur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mic Sans MS"/>
              </a:rPr>
              <a:t>Policing its Members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Members of Congress are above the law and cannot be arrested for anything, that cannot even be given a traffic ticket. But here are some ways to keep them in check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mic Sans MS"/>
              </a:rPr>
              <a:t>Censur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is a formal reprimand for bad behavior while in Congress. Usually for a less serious offense. This publicly exposes the problem and humiliates the member of Congres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mic Sans MS"/>
              </a:rPr>
              <a:t>Expulsion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the removal from office of a member of Congress. This is for a serious offense that will bring criminal charges. A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2/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vote is needed to remove a member of Congres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807732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Gerrymandering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is the process of drawing a Congressional district with a preconceived result in mind. The Supreme Court has ruled gerrymandering unconstitutional. The district must then be redrawn. The 12th district in NC had to be redrawn in 2002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80880" y="837720"/>
            <a:ext cx="8305920" cy="528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Bicameral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a lawmaking body of 2 hous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upper house is the </a:t>
            </a: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Senat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lower house is the </a:t>
            </a: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House of Representativ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Reason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For a Bicameral Legislatu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ther countries had been successful with this type of legislature befo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t came about because of the compromise at the Constitutional Convention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897280" y="1676520"/>
            <a:ext cx="3348000" cy="3504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66"/>
                </a:solidFill>
                <a:latin typeface="Comic Sans MS"/>
              </a:rPr>
              <a:t>Floor Procedures</a:t>
            </a:r>
            <a:r>
              <a:rPr b="0" lang="en-US" sz="4000" spc="-1" strike="noStrike">
                <a:solidFill>
                  <a:srgbClr val="ff6666"/>
                </a:solidFill>
                <a:latin typeface="Comic Sans MS"/>
              </a:rPr>
              <a:t>-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igeon Hol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 to set aside a bill without studying it. By doing this the bill will die in committe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mic Sans MS"/>
              </a:rPr>
              <a:t>Filibuster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 a tactic used by wasting time talking about anything until the bill’s sponsor withdraws the bill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mic Sans MS"/>
              </a:rPr>
              <a:t>Clotur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 a procedure to limit a filibuster. This limits each Senator to 1 hour of floor time. 3/5, or 60 votes are needed to enact clotur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66"/>
                </a:solidFill>
                <a:latin typeface="Comic Sans MS"/>
              </a:rPr>
              <a:t>Bills and Committe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ow a bill becomes a law (refer to the chart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 member introduces the bill in one house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bill then goes to committee and a conference committee to work out problem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bill is then passed by that house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bill then goes to the other hous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n the bill goes to another committee to work out problem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f there are differences, the bill must go to another conference committee to work out exact wording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f it is all right, then the bill can pass the other house. A bill must pass both houses with the exact language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President signs the bill into law, or he vetoes it. If it is vetoed, Congress can override the veto with a 2/3 vote in each house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519280" y="457200"/>
            <a:ext cx="4154400" cy="5638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66"/>
                </a:solidFill>
                <a:latin typeface="Comic Sans MS"/>
              </a:rPr>
              <a:t>Committe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Standing Committee-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Permanent committees of Congres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Select Committees-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Presidential committees made for a special issu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Joint Committees-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committees of both houses of Congres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Conference Committees-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committees to work out a compromise bill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8381880" cy="559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Comic Sans MS"/>
              </a:rPr>
              <a:t>The House of Representativ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s </a:t>
            </a:r>
            <a:r>
              <a:rPr b="1" lang="en-US" sz="3600" spc="-1" strike="noStrike">
                <a:solidFill>
                  <a:srgbClr val="ffff66"/>
                </a:solidFill>
                <a:latin typeface="Comic Sans MS"/>
              </a:rPr>
              <a:t>435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member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presentation is based on the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opulation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f each state. One representative for every 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800,000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peopl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 member of the House serves a </a:t>
            </a:r>
            <a:r>
              <a:rPr b="1" lang="en-US" sz="2800" spc="-1" strike="noStrike">
                <a:solidFill>
                  <a:srgbClr val="ffff66"/>
                </a:solidFill>
                <a:latin typeface="Comic Sans MS"/>
              </a:rPr>
              <a:t>2-year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term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with an unlimited number of term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66"/>
                </a:solidFill>
                <a:latin typeface="Comic Sans MS"/>
              </a:rPr>
              <a:t>Cabarrus County’s Representatio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orth Carolina has </a:t>
            </a: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13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embers in the House of Representatives. With each serving a Congressional District in the Stat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Your representative is </a:t>
            </a: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Robin Haye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from North Carolina’s 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Congressional Distric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5909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6000"/>
          </a:bodyPr>
          <a:p>
            <a:pPr marL="5238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Comic Sans MS"/>
              </a:rPr>
              <a:t>Qualification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523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5238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use of Representative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5238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5238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523800" indent="-52380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You must be </a:t>
            </a: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25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years old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523800" indent="-52380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You must be a citizen of the US for at least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7 year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523800" indent="-52380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You must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ive in the Stat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you represen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enefit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presentatives have a yearly salary of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65,500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dollar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ther benefit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 free parking, free mail (</a:t>
            </a: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Franking privileg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), a travel allowance, free treatments in V.A. hospitals, and recreation activiti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Officers of the House of Representatives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presiding officer is the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peaker of the Hous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(Nancy Pelosi a democrat from California.)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he is in charge of the Hous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Comic Sans MS"/>
              </a:rPr>
              <a:t>Duties of the Speak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15328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Speaker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ducts the every day operation of the Hous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ppoints Representatives to special committe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ducts impeachment procedur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igns all bills passed by the Hous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ecomes President if the President and the Vice-President are disabled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Speaker gets paid 212,100 dollars a year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arty Leadership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Comic Sans MS"/>
              </a:rPr>
              <a:t>Whip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- is the strong man for the party floor leader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mic Sans MS"/>
              </a:rPr>
              <a:t>The floor leader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is in charge of their party’s operations in the House. The Majority party leader is 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Steny Hoyer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a Democrat, and the Minority leader is 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John Boehne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 Democra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loor Leaders get paid 183,500 dollars a year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16:32:15Z</dcterms:created>
  <dc:creator>Cabarrus County Schools</dc:creator>
  <dc:description/>
  <dc:language>en-US</dc:language>
  <cp:lastModifiedBy>Cabarrus County Schools</cp:lastModifiedBy>
  <dcterms:modified xsi:type="dcterms:W3CDTF">2007-03-09T17:33:34Z</dcterms:modified>
  <cp:revision>18</cp:revision>
  <dc:subject/>
  <dc:title>6 Chapter Notes  The Structure of Congress</dc:title>
</cp:coreProperties>
</file>